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A98C8F85-CC57-4A87-A157-75FA2BCF2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9BB-A12C-4724-A0A3-B594A5C7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40C-8A29-4B1A-8CFD-D4224E8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0EE-6510-44BC-BBC6-610BC570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B0B-CF39-4D13-B1FB-9498805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9CC-059D-45C0-894F-CD273C5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7EB-FBB0-4A7C-87D3-CCF9376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D46-508E-4221-B04C-772FA6B5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F7E-3B03-4E51-B009-91C73DA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784-DFA9-4763-A682-D94070EA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4E4-7181-4F19-9C70-D854FDC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987-A783-42F7-94C9-3B325C0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FBE-6651-467D-A321-DD3641B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484758-FB88-46F1-BF1D-8D3CB749C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369160" y="2065320"/>
            <a:ext cx="5421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Spirit’s Fire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fire withi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lov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as our frie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r ligh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guide through what's ahea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 need you now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 mad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s universe we se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 save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r lives and set us fre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power's here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ong us as we s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're everyt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're everyth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your fir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carry us al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desir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 build the kingdom stro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us the dream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hen the dream is don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'll be with you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e'll be with you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mighty fl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lling us hig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ver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rn in our heart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low through our vein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Spirit's fire.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2x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5-08-26T23:44:44Z</dcterms:modified>
  <cp:revision>1915</cp:revision>
  <dc:subject/>
  <dc:title>Slide 1</dc:title>
</cp:coreProperties>
</file>